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9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19.jpeg" ContentType="image/jpeg"/>
  <Override PartName="/ppt/media/image22.jpeg" ContentType="image/jpeg"/>
  <Override PartName="/ppt/media/image21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5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20.png" ContentType="image/png"/>
  <Override PartName="/ppt/media/image7.jpeg" ContentType="image/jpeg"/>
  <Override PartName="/ppt/media/image1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0826-78DF-42BE-9E7F-1EBD1F243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E378-CBAC-42DC-BC15-FD2B63C79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8E17-1D01-4877-88E2-D2931C407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BA9F-057B-42D8-8285-EEF45F767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BB317-6E43-478C-85A7-8F2F96F7E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59AF4-E687-489B-B1EB-C90CD5E67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66236-31C8-4DB7-8D6F-EF5FCBC5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CFF48-370E-4988-84B6-C791FB565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3201A-FDC6-4B68-B644-9E03B6327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2072D-CE81-41BF-AAF9-39E794DAD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C85B6-C292-4B6E-85F6-905B3370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C1FF-6913-4ACD-B561-09BE6D675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F930F-F875-44C7-8710-6222DEB3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03DC8-7258-4CCC-A459-80875483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5F1C1-962E-4233-810A-EB1A10C45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8880A-759F-4896-8CC5-72FB89B21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F1DAD-AF3A-4A59-8FD8-C15AA9975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85B67-4E87-4BBC-8F53-FED13E622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7FEAE-24E3-42CD-ABFA-DE8B29D80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FEC91-AE10-476E-BCE5-F7076BFF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85D0B-8AE7-45B9-B1B6-49B61249D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FC1DA-E8A2-4B21-B6ED-CB614D9F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A082-06D6-4DF5-B0B4-40B706E28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16589-7900-47FE-A741-EB2857525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06D90-E18F-4C86-969D-92A84406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735EA-9E26-4A2A-B6A9-20A56EBB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91F42-6A8C-48C2-8665-A1ABE532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EEAB4-7DFC-40FA-8E6C-076BC627B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893D0-DEA5-4343-9964-1114CCBC6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38BCC-AE14-4758-985B-DE29117D8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A90EB-25B9-49C2-B3F3-5E004CF6B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FC2A9-D39B-45DE-A069-1CC337772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3ED18-1E3B-4580-A312-C5512A00C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9E92-4F69-4854-A251-9CF00E4ED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9271A-1090-48B5-BE13-2984E868F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FCBA6-5489-410F-A3D8-C008A9F71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9447B-22E3-416D-AE9C-275F75500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F7366-B007-4F80-99E7-948B930F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0A916-0F45-4C2F-BDEB-C682E6FD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1E281-016B-481C-99B6-E922A23A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5F14D-6689-4FD3-B851-6B5EB2C6C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DB94E-A047-437C-9280-7C2137B7F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2D620-CDDF-4C45-BDD7-B4057B11E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D9F01-4921-44A9-A421-386F9EBB7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9C58-93EE-4000-9DA4-D1A035B83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0981B-A8CC-478F-AF7B-721AA7EC1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FDADD-5F78-4E55-9667-E94CF8850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07FAF-4FF4-4AFC-840E-74740D7C4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C7AF3-5441-4C86-9771-4392A7219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6A818-7D1F-4BF7-A747-86ECC2037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EAB4A-B955-496E-8833-4EDF13EA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A9FA0-B1C7-4351-965B-F89CEB97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79A6E-D445-46EC-B771-90A2AD86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807F4-0FBD-494C-B625-67B549C9C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8C713-B40E-42A4-B6FF-6F3EC5D25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6E90-3EC2-4EA4-8152-9F58EBCCB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1045D-E1E5-42E6-A461-EC5E14FA1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26D0-8517-40E2-B78C-4E1C0F91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2DB8-5B97-4640-92D2-531E9580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07D6-8391-4283-8C0C-ADC692EF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2C654-CECF-4334-8832-C19A40008C10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5C4B8-F12E-4A77-AF4F-D82E99C5AECF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12409-FF8B-4F8A-A996-4C6307ABF2C2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F2409-6928-4DA6-A0AA-9F9A0EC43404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A0AD1-BB9E-47AF-87D3-B45B5BD64B52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2" descr=""/>
          <p:cNvPicPr/>
          <p:nvPr/>
        </p:nvPicPr>
        <p:blipFill>
          <a:blip r:embed="rId1"/>
          <a:stretch/>
        </p:blipFill>
        <p:spPr>
          <a:xfrm>
            <a:off x="3365640" y="536400"/>
            <a:ext cx="5108400" cy="28656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ff"/>
                </a:solidFill>
                <a:uFillTx/>
                <a:latin typeface="Trebuchet MS"/>
              </a:rPr>
              <a:t>Everything</a:t>
            </a: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 is An Argument!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Rectangle 2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Picture 5" descr="abombnation"/>
          <p:cNvPicPr/>
          <p:nvPr/>
        </p:nvPicPr>
        <p:blipFill>
          <a:blip r:embed="rId2"/>
          <a:stretch/>
        </p:blipFill>
        <p:spPr>
          <a:xfrm>
            <a:off x="2286000" y="1676520"/>
            <a:ext cx="36957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Rectangle 2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re not neutral reflections of realit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an be laden with connota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an strategically omit facts, element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an employ elements that convey/affect meanin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4" name="Picture 5" descr="C:\Users\Stephen\AppData\Local\Microsoft\Windows\Temporary Internet Files\Content.IE5\AVOJX62D\MPj04036780000[1].jpg"/>
          <p:cNvPicPr/>
          <p:nvPr/>
        </p:nvPicPr>
        <p:blipFill>
          <a:blip r:embed="rId2"/>
          <a:stretch/>
        </p:blipFill>
        <p:spPr>
          <a:xfrm>
            <a:off x="3809880" y="3733920"/>
            <a:ext cx="3505320" cy="28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Title 8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456840" y="1447560"/>
            <a:ext cx="4040280" cy="1143000"/>
          </a:xfrm>
          <a:prstGeom prst="rect">
            <a:avLst/>
          </a:prstGeom>
          <a:noFill/>
          <a:ln w="12600">
            <a:solidFill>
              <a:srgbClr val="b13f9a"/>
            </a:solidFill>
            <a:miter/>
          </a:ln>
        </p:spPr>
        <p:txBody>
          <a:bodyPr anchor="ctr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13f9a"/>
                </a:solidFill>
                <a:latin typeface="Trebuchet MS"/>
              </a:rPr>
              <a:t>Because visual images are non-verbal, they can </a:t>
            </a:r>
            <a:r>
              <a:rPr b="1" i="1" lang="en-US" sz="2000" spc="-1" strike="noStrike">
                <a:solidFill>
                  <a:srgbClr val="b13f9a"/>
                </a:solidFill>
                <a:latin typeface="Trebuchet MS"/>
              </a:rPr>
              <a:t>say</a:t>
            </a:r>
            <a:r>
              <a:rPr b="1" lang="en-US" sz="2000" spc="-1" strike="noStrike">
                <a:solidFill>
                  <a:srgbClr val="b13f9a"/>
                </a:solidFill>
                <a:latin typeface="Trebuchet MS"/>
              </a:rPr>
              <a:t> things without </a:t>
            </a:r>
            <a:r>
              <a:rPr b="1" i="1" lang="en-US" sz="2000" spc="-1" strike="noStrike">
                <a:solidFill>
                  <a:srgbClr val="b13f9a"/>
                </a:solidFill>
                <a:latin typeface="Trebuchet MS"/>
              </a:rPr>
              <a:t>saying</a:t>
            </a:r>
            <a:r>
              <a:rPr b="1" lang="en-US" sz="2000" spc="-1" strike="noStrike">
                <a:solidFill>
                  <a:srgbClr val="b13f9a"/>
                </a:solidFill>
                <a:latin typeface="Trebuchet MS"/>
              </a:rPr>
              <a:t> things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62160" y="5333760"/>
            <a:ext cx="3886200" cy="990360"/>
          </a:xfrm>
          <a:prstGeom prst="rect">
            <a:avLst/>
          </a:prstGeom>
          <a:noFill/>
          <a:ln w="12600">
            <a:solidFill>
              <a:srgbClr val="b13f9a"/>
            </a:solidFill>
            <a:miter/>
          </a:ln>
        </p:spPr>
        <p:txBody>
          <a:bodyPr anchor="ctr">
            <a:normAutofit fontScale="9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13f9a"/>
                </a:solidFill>
                <a:latin typeface="Trebuchet MS"/>
              </a:rPr>
              <a:t>Images are omni-present, and are used to manipulate us!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Content Placeholder 6" descr="coke.jpg"/>
          <p:cNvPicPr/>
          <p:nvPr/>
        </p:nvPicPr>
        <p:blipFill>
          <a:blip r:embed="rId2"/>
          <a:stretch/>
        </p:blipFill>
        <p:spPr>
          <a:xfrm>
            <a:off x="838080" y="2819520"/>
            <a:ext cx="2730600" cy="2857320"/>
          </a:xfrm>
          <a:prstGeom prst="rect">
            <a:avLst/>
          </a:prstGeom>
          <a:ln w="0">
            <a:noFill/>
          </a:ln>
        </p:spPr>
      </p:pic>
      <p:pic>
        <p:nvPicPr>
          <p:cNvPr id="229" name="Content Placeholder 7" descr="coke2.jpg"/>
          <p:cNvPicPr/>
          <p:nvPr/>
        </p:nvPicPr>
        <p:blipFill>
          <a:blip r:embed="rId3"/>
          <a:stretch/>
        </p:blipFill>
        <p:spPr>
          <a:xfrm>
            <a:off x="4876920" y="1676520"/>
            <a:ext cx="226044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Rectangle 2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56840" y="1599840"/>
            <a:ext cx="3521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at kind of information does this image convey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at is intended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at attracts the viewer’s eye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ow is it composed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at colors are used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at style of design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o is the intended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udience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2" name="Content Placeholder 7" descr="Photo1.png"/>
          <p:cNvPicPr/>
          <p:nvPr/>
        </p:nvPicPr>
        <p:blipFill>
          <a:blip r:embed="rId2"/>
          <a:stretch/>
        </p:blipFill>
        <p:spPr>
          <a:xfrm>
            <a:off x="4343400" y="1752480"/>
            <a:ext cx="3352680" cy="43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Rectangle 2" descr=""/>
          <p:cNvPicPr/>
          <p:nvPr/>
        </p:nvPicPr>
        <p:blipFill>
          <a:blip r:embed="rId1"/>
          <a:stretch/>
        </p:blipFill>
        <p:spPr>
          <a:xfrm>
            <a:off x="476280" y="0"/>
            <a:ext cx="7235640" cy="11462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-360" y="1599840"/>
            <a:ext cx="480060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hat is in the foreground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hat is in or out of focus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hat is placed high/low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How are light and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lor used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hat effect does all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s have on the viewer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hat details are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ncluded/excluded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Picture 4" descr="the-atheist-e"/>
          <p:cNvPicPr/>
          <p:nvPr/>
        </p:nvPicPr>
        <p:blipFill>
          <a:blip r:embed="rId2"/>
          <a:stretch/>
        </p:blipFill>
        <p:spPr>
          <a:xfrm>
            <a:off x="4800600" y="1523880"/>
            <a:ext cx="297180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Rectangle 2" descr=""/>
          <p:cNvPicPr/>
          <p:nvPr/>
        </p:nvPicPr>
        <p:blipFill>
          <a:blip r:embed="rId1"/>
          <a:stretch/>
        </p:blipFill>
        <p:spPr>
          <a:xfrm>
            <a:off x="457200" y="0"/>
            <a:ext cx="7242120" cy="11462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o the visuals evoke positive or negative scenes or allusions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emotions does this visual evoke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emotions are intended to be evoked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values or ideas are suggested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oes the image reinforce or question those ideas or values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8" name="Content Placeholder 6" descr="ad.bmp"/>
          <p:cNvPicPr/>
          <p:nvPr/>
        </p:nvPicPr>
        <p:blipFill>
          <a:blip r:embed="rId2"/>
          <a:stretch/>
        </p:blipFill>
        <p:spPr>
          <a:xfrm>
            <a:off x="4213080" y="1459080"/>
            <a:ext cx="363564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Rectangle 2" descr=""/>
          <p:cNvPicPr/>
          <p:nvPr/>
        </p:nvPicPr>
        <p:blipFill>
          <a:blip r:embed="rId1"/>
          <a:stretch/>
        </p:blipFill>
        <p:spPr>
          <a:xfrm>
            <a:off x="457200" y="23184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228240" y="1371240"/>
            <a:ext cx="80010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s anything in the picture exaggerated, idealized, repeated, or intensified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s anything confusing or ambiguous?  Is this intended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is the purpose of the accompanying script?  Does it clarify, reinforce, contradict, or blur the image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1" name="Content Placeholder 6" descr="ad.bmp"/>
          <p:cNvPicPr/>
          <p:nvPr/>
        </p:nvPicPr>
        <p:blipFill>
          <a:blip r:embed="rId2"/>
          <a:stretch/>
        </p:blipFill>
        <p:spPr>
          <a:xfrm>
            <a:off x="1676520" y="3276720"/>
            <a:ext cx="46274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4" descr="Vegetarian--CSI"/>
          <p:cNvPicPr/>
          <p:nvPr/>
        </p:nvPicPr>
        <p:blipFill>
          <a:blip r:embed="rId1"/>
          <a:stretch/>
        </p:blipFill>
        <p:spPr>
          <a:xfrm>
            <a:off x="2371680" y="571680"/>
            <a:ext cx="44006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Rectangle 2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7242120" cy="12128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O=Overview 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analyze the whole image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P=Parts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analyze the parts of the image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T=Text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(analyze any written text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I=Interrelationship of whole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(analyze how the whole, parts, and text work together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=Conclusion 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(make a conclusion about the intended argument, purpose, and audience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7T15:33:31Z</dcterms:created>
  <dc:creator>Carrie Danielson</dc:creator>
  <dc:description/>
  <dc:language>en-US</dc:language>
  <cp:lastModifiedBy>Michelle Clark-Cadwell</cp:lastModifiedBy>
  <dcterms:modified xsi:type="dcterms:W3CDTF">2016-10-04T21:33:36Z</dcterms:modified>
  <cp:revision>67</cp:revision>
  <dc:subject/>
  <dc:title>Visual Argument</dc:title>
</cp:coreProperties>
</file>